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5.wmf" ContentType="image/x-wmf"/>
  <Override PartName="/ppt/media/image6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A74-E20D-4961-956B-671CD7DF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CB2-4600-4D1E-B364-85164533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303-57B4-47C0-A4D8-05825309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1B8-070F-4B23-A473-CFA05184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64E4-383A-4924-8369-C52540CC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D48B-B9F4-4728-8F5C-DA9C4D61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4449-A047-4495-A647-6B52BF4C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39C1-3783-4CAA-9DDD-A9FC4745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3B7B-B8C5-406E-9E58-175D6312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58840"/>
            <a:ext cx="83822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0477-9566-4D89-B16C-1EE125AF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786C-A13E-4678-BA5C-05BCA5AA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908-31D5-4B87-B85F-ACA1D8EF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41CE-7F6D-44CC-B329-95BDA384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F742-5ECF-46B4-B6CF-3485BD53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B484-9FF7-45AD-A04B-E2698DF4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790F-6AA1-474C-AE72-6578D70C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B1F0-EDF1-4D11-9E7F-E6F17C78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45A-AB18-4EC3-8B5F-B39A304C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A79-447D-48D6-9295-F4380A1A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B32-9E8A-425B-87FF-A8ECF89E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8840"/>
            <a:ext cx="83822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228-8DDC-4D82-B85D-C48858A7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4D2-B21B-4E5E-A9B4-EFC28673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7B5-DB13-4E99-8405-18963DFB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284-80A3-41A7-B69A-D2A92788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b6a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37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37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37f5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7f5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37f5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7f5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37f5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3508-14F0-4456-9828-06759DD6B1D8}" type="slidenum">
              <a:rPr b="0" lang="en-US" sz="1000" spc="-1" strike="noStrike">
                <a:solidFill>
                  <a:srgbClr val="f37f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7162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b6a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7b4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7b4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37f5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7f5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37f5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1D45-046D-4DD5-B715-211417DBB125}" type="slidenum">
              <a:rPr b="0" lang="en-US" sz="1000" spc="-1" strike="noStrike">
                <a:solidFill>
                  <a:srgbClr val="f37f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7f5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7f5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37f5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7f5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37f5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37f5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7f5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37f5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37f5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7f5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37f5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7f5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37f5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7f5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37f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www.northwesternenergy.com/OurCommitment/ENG/electric/html/games1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315200" cy="621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43200" y="914400"/>
            <a:ext cx="4038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b6a0"/>
                </a:solidFill>
                <a:latin typeface="Arial Black"/>
              </a:rPr>
              <a:t>Electricity</a:t>
            </a:r>
            <a:endParaRPr b="0" lang="en-US" sz="44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28840" y="213336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5105160" cy="4651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90720" y="12193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24a06"/>
                </a:solidFill>
                <a:uFillTx/>
                <a:latin typeface="Arial"/>
                <a:hlinkClick r:id="rId3"/>
              </a:rPr>
              <a:t>Time for an electricity safety game.</a:t>
            </a:r>
            <a:endParaRPr b="0" lang="en-US" sz="3600" spc="-1" strike="noStrike">
              <a:solidFill>
                <a:srgbClr val="f37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b6a0"/>
                </a:solidFill>
                <a:latin typeface="Arial Black"/>
              </a:rPr>
              <a:t>Electricity safety</a:t>
            </a: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Electricity is in every part of our lives.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We have to use it safely, because it can be extremely dangerous.  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3581280"/>
            <a:ext cx="32004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b6a0"/>
                </a:solidFill>
                <a:latin typeface="Arial Black"/>
              </a:rPr>
              <a:t>Safety rules</a:t>
            </a: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In the house…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Around water?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2120" y="2819520"/>
            <a:ext cx="3809880" cy="373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257800" y="3276720"/>
            <a:ext cx="31240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b6a0"/>
                </a:solidFill>
                <a:latin typeface="Arial Black"/>
              </a:rPr>
              <a:t>Electricity safety</a:t>
            </a: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With appliances…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4876560" cy="3608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857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b6a0"/>
                </a:solidFill>
                <a:latin typeface="Arial Black"/>
              </a:rPr>
              <a:t>Electricity safety</a:t>
            </a: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Plugs and outlets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4496040" cy="3205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8862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39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b6a0"/>
                </a:solidFill>
                <a:latin typeface="Arial Black"/>
              </a:rPr>
              <a:t>Electricity safety</a:t>
            </a: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Outside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62520" y="1295280"/>
            <a:ext cx="4171680" cy="5562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18715800">
            <a:off x="4756680" y="1719720"/>
            <a:ext cx="990720" cy="598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 rot="13589400">
            <a:off x="3918600" y="2862720"/>
            <a:ext cx="990720" cy="598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rot="4941600">
            <a:off x="-1834200" y="3327480"/>
            <a:ext cx="17334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723E-006 C 0.01336 0.0007 0.02968 -0.0067 0.0401 0.0044 C 0.0427 0.0074 0.04184 0.01457 0.04514 0.01758 C 0.04791 0.02012 0.05503 0.02197 0.05503 0.0222 C 0.06302 0.03191 0.0677 0.02798 0.0802 0.02613 C 0.08802 0.02104 0.0967 0.01827 0.1052 0.0155 C 0.11024 0.00463 0.1118 0.000229999999999999 0.1151 -0.01109 C 0.11632 -0.03722 0.11146 -0.04531 0.12673 -0.05526 C 0.13802 -0.07005 0.12534 -0.05063 0.13316 -0.08185 C 0.13455 -0.0867 0.14201 -0.09063 0.14479 -0.09248 C 0.15156 -0.10173 0.15902 -0.10705 0.16823 -0.11052 C 0.17899 -0.10959 0.18958 -0.10913 0.20017 -0.10797 C 0.20538 -0.10728 0.2118 -0.09248 0.2118 -0.09225 C 0.21232 -0.08 0.21302 -0.06774 0.21319 -0.05526 C 0.21458 -0.01664 0.20711 0.02821 0.23663 0.04833 C 0.24791 0.04694 0.2592 0.04625 0.26996 0.04393 C 0.29809 0.03746 0.32257 0.01503 0.35034 0.00648 C 0.36232 -0.01595 0.34687 0.01041 0.36198 -0.00901 C 0.36458 -0.01225 0.36614 -0.01664 0.36823 -0.02011 C 0.36944 -0.02497 0.36944 -0.0282 0.37361 -0.03098 C 0.37795 -0.03375 0.3868 -0.03768 0.3868 -0.03745 C 0.40573 -0.03699 0.43507 -0.04531 0.45347 -0.02867 C 0.45781 -0.02081 0.46284 -0.01456 0.46718 -0.0067 C 0.47274 0.00417 0.47673 0.0148 0.48333 0.02405 C 0.48906 0.03839 0.49027 0.05434 0.49861 0.0659 C 0.50277 0.07908 0.50573 0.10035 0.51718 0.10544 C 0.52378 0.11492 0.53142 0.12023 0.5401 0.12347 C 0.56146 0.11515 0.56701 0.10128 0.58003 0.07931 C 0.58281 0.07469 0.58854 0.0659 0.58854 0.06613 C 0.59843 0.03191 0.58541 0.07353 0.59687 0.04833 C 0.59982 0.04208 0.60121 0.03492 0.60382 0.02844 C 0.60885 0.01318 0.61111 -0.003 0.61701 -0.0178 C 0.6217 -0.04161 0.62639 -0.0652 0.63229 -0.08832 C 0.63368 -0.09549 0.63368 -0.10312 0.63524 -0.11052 C 0.63663 -0.1156 0.63975 -0.12023 0.64062 -0.12578 C 0.64166 -0.13387 0.64062 -0.14196 0.64062 -0.14982 E">
                                      <p:cBhvr>
                                        <p:cTn id="72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b6a0"/>
                </a:solidFill>
                <a:latin typeface="Arial Black"/>
              </a:rPr>
              <a:t>Electricity safety</a:t>
            </a: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Lightning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2716200" cy="4114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92800" y="914400"/>
            <a:ext cx="3751200" cy="563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28600" y="1828800"/>
            <a:ext cx="2859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3:56:02Z</dcterms:created>
  <dc:creator>nbdoe</dc:creator>
  <dc:description/>
  <cp:keywords/>
  <dc:language>en-US</dc:language>
  <cp:lastModifiedBy>nbdoe</cp:lastModifiedBy>
  <dcterms:modified xsi:type="dcterms:W3CDTF">2007-11-21T01:06:22Z</dcterms:modified>
  <cp:revision>5</cp:revision>
  <dc:subject/>
  <dc:title>Electric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21033</vt:lpwstr>
  </property>
</Properties>
</file>